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highchime.wav" ContentType="audio/x-wav"/>
  <Override PartName="/ppt/media/carbrake.wav" ContentType="audio/x-wav"/>
  <Override PartName="/ppt/media/zapbig0g.wav" ContentType="audio/x-wav"/>
  <Override PartName="/ppt/media/glass.wav" ContentType="audio/x-wav"/>
  <Override PartName="/ppt/media/zipdn102.wav" ContentType="audio/x-wav"/>
  <Override PartName="/ppt/media/zapvib04.wav" ContentType="audio/x-wav"/>
  <Override PartName="/ppt/media/zipby102.wav" ContentType="audio/x-wav"/>
  <Override PartName="/ppt/media/driveby.wav" ContentType="audio/x-wav"/>
  <Override PartName="/ppt/media/zipup202.wav" ContentType="audio/x-wav"/>
  <Override PartName="/ppt/media/jetflyby2.wav" ContentType="audio/x-wav"/>
  <Override PartName="/ppt/media/lzipup01.wav" ContentType="audio/x-wav"/>
  <Override PartName="/ppt/media/frwrks0g.wav" ContentType="audio/x-wav"/>
  <Override PartName="/ppt/media/projctor.wav" ContentType="audio/x-wav"/>
  <Override PartName="/ppt/media/jetflyby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6DCE-C8BF-4231-9A40-D3BF0936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4C6-90E8-4656-8C42-0AC15DA5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56C0-B7F3-410C-90C7-6E5BE0F5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BE6-170F-45FC-8C54-6919A0C8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3F6-4E2B-421C-903D-5B06E82E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1044-863A-468B-A1A5-35856528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90B-932E-47B7-9A98-67D02613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6A7-704B-469E-A2EB-AB72D8B1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6BB-E5DF-4536-BBC3-B83867C8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1AF-CE2A-4782-9CC8-AE00C5EB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A6BB-1D4E-4EBF-B338-5670B0A9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3A40-54BB-4A18-AF24-9B0A5DE7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735A-45BA-40A9-87EA-B60D513B6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zipdn102.wav"/><Relationship Id="rId3" Type="http://schemas.openxmlformats.org/officeDocument/2006/relationships/audio" Target="../media/zipdn102.wav"/><Relationship Id="rId4" Type="http://schemas.openxmlformats.org/officeDocument/2006/relationships/audio" Target="../media/glass.wav"/><Relationship Id="rId5" Type="http://schemas.openxmlformats.org/officeDocument/2006/relationships/audio" Target="../media/zipup202.wav"/><Relationship Id="rId6" Type="http://schemas.openxmlformats.org/officeDocument/2006/relationships/audio" Target="../media/zipby102.wav"/><Relationship Id="rId7" Type="http://schemas.openxmlformats.org/officeDocument/2006/relationships/audio" Target="../media/zipby102.wav"/><Relationship Id="rId8" Type="http://schemas.openxmlformats.org/officeDocument/2006/relationships/audio" Target="../media/zipby102.wav"/><Relationship Id="rId9" Type="http://schemas.openxmlformats.org/officeDocument/2006/relationships/audio" Target="../media/zapbig0g.wav"/><Relationship Id="rId10" Type="http://schemas.openxmlformats.org/officeDocument/2006/relationships/audio" Target="../media/zapvib04.wav"/><Relationship Id="rId11" Type="http://schemas.openxmlformats.org/officeDocument/2006/relationships/audio" Target="../media/driveby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lzipup01.wav"/><Relationship Id="rId15" Type="http://schemas.openxmlformats.org/officeDocument/2006/relationships/audio" Target="../media/lzipup01.wav"/><Relationship Id="rId16" Type="http://schemas.openxmlformats.org/officeDocument/2006/relationships/audio" Target="../media/frwrks0g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zipdn102.wav"/><Relationship Id="rId3" Type="http://schemas.openxmlformats.org/officeDocument/2006/relationships/audio" Target="../media/zipdn102.wav"/><Relationship Id="rId4" Type="http://schemas.openxmlformats.org/officeDocument/2006/relationships/audio" Target="../media/glass.wav"/><Relationship Id="rId5" Type="http://schemas.openxmlformats.org/officeDocument/2006/relationships/audio" Target="../media/zipup202.wav"/><Relationship Id="rId6" Type="http://schemas.openxmlformats.org/officeDocument/2006/relationships/audio" Target="../media/zipby102.wav"/><Relationship Id="rId7" Type="http://schemas.openxmlformats.org/officeDocument/2006/relationships/audio" Target="../media/zipby102.wav"/><Relationship Id="rId8" Type="http://schemas.openxmlformats.org/officeDocument/2006/relationships/audio" Target="../media/zipby102.wav"/><Relationship Id="rId9" Type="http://schemas.openxmlformats.org/officeDocument/2006/relationships/audio" Target="../media/zapbig0g.wav"/><Relationship Id="rId10" Type="http://schemas.openxmlformats.org/officeDocument/2006/relationships/audio" Target="../media/zapvib04.wav"/><Relationship Id="rId11" Type="http://schemas.openxmlformats.org/officeDocument/2006/relationships/audio" Target="../media/driveby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lzipup01.wav"/><Relationship Id="rId15" Type="http://schemas.openxmlformats.org/officeDocument/2006/relationships/audio" Target="../media/lzipup01.wav"/><Relationship Id="rId16" Type="http://schemas.openxmlformats.org/officeDocument/2006/relationships/audio" Target="../media/frwrks0g.wav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zipup202.wav"/><Relationship Id="rId3" Type="http://schemas.openxmlformats.org/officeDocument/2006/relationships/audio" Target="../media/zipby102.wav"/><Relationship Id="rId4" Type="http://schemas.openxmlformats.org/officeDocument/2006/relationships/audio" Target="../media/zipby102.wav"/><Relationship Id="rId5" Type="http://schemas.openxmlformats.org/officeDocument/2006/relationships/audio" Target="../media/zipby102.wav"/><Relationship Id="rId6" Type="http://schemas.openxmlformats.org/officeDocument/2006/relationships/audio" Target="../media/zapbig0g.wav"/><Relationship Id="rId7" Type="http://schemas.openxmlformats.org/officeDocument/2006/relationships/audio" Target="../media/zapvib04.wav"/><Relationship Id="rId8" Type="http://schemas.openxmlformats.org/officeDocument/2006/relationships/audio" Target="../media/driveby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lzipup01.wav"/><Relationship Id="rId12" Type="http://schemas.openxmlformats.org/officeDocument/2006/relationships/audio" Target="../media/lzipup01.wav"/><Relationship Id="rId13" Type="http://schemas.openxmlformats.org/officeDocument/2006/relationships/audio" Target="../media/frwrks0g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zipup202.wav"/><Relationship Id="rId3" Type="http://schemas.openxmlformats.org/officeDocument/2006/relationships/audio" Target="../media/zipby102.wav"/><Relationship Id="rId4" Type="http://schemas.openxmlformats.org/officeDocument/2006/relationships/audio" Target="../media/zipby102.wav"/><Relationship Id="rId5" Type="http://schemas.openxmlformats.org/officeDocument/2006/relationships/audio" Target="../media/zipby102.wav"/><Relationship Id="rId6" Type="http://schemas.openxmlformats.org/officeDocument/2006/relationships/audio" Target="../media/zapbig0g.wav"/><Relationship Id="rId7" Type="http://schemas.openxmlformats.org/officeDocument/2006/relationships/audio" Target="../media/zapvib04.wav"/><Relationship Id="rId8" Type="http://schemas.openxmlformats.org/officeDocument/2006/relationships/audio" Target="../media/driveby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lzipup01.wav"/><Relationship Id="rId12" Type="http://schemas.openxmlformats.org/officeDocument/2006/relationships/audio" Target="../media/lzipup01.wav"/><Relationship Id="rId13" Type="http://schemas.openxmlformats.org/officeDocument/2006/relationships/audio" Target="../media/frwrks0g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tflyby.wav"/><Relationship Id="rId2" Type="http://schemas.openxmlformats.org/officeDocument/2006/relationships/audio" Target="../media/highchime.wav"/><Relationship Id="rId3" Type="http://schemas.openxmlformats.org/officeDocument/2006/relationships/audio" Target="../media/glass.wav"/><Relationship Id="rId4" Type="http://schemas.openxmlformats.org/officeDocument/2006/relationships/audio" Target="../media/zipup202.wav"/><Relationship Id="rId5" Type="http://schemas.openxmlformats.org/officeDocument/2006/relationships/audio" Target="../media/zipby102.wav"/><Relationship Id="rId6" Type="http://schemas.openxmlformats.org/officeDocument/2006/relationships/audio" Target="../media/zipby102.wav"/><Relationship Id="rId7" Type="http://schemas.openxmlformats.org/officeDocument/2006/relationships/audio" Target="../media/zipby102.wav"/><Relationship Id="rId8" Type="http://schemas.openxmlformats.org/officeDocument/2006/relationships/audio" Target="../media/zapbig0g.wav"/><Relationship Id="rId9" Type="http://schemas.openxmlformats.org/officeDocument/2006/relationships/audio" Target="../media/zapvib04.wav"/><Relationship Id="rId10" Type="http://schemas.openxmlformats.org/officeDocument/2006/relationships/audio" Target="../media/driveby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lzipup01.wav"/><Relationship Id="rId14" Type="http://schemas.openxmlformats.org/officeDocument/2006/relationships/audio" Target="../media/lzipup01.wav"/><Relationship Id="rId15" Type="http://schemas.openxmlformats.org/officeDocument/2006/relationships/audio" Target="../media/frwrks0g.wav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zipup202.wav"/><Relationship Id="rId3" Type="http://schemas.openxmlformats.org/officeDocument/2006/relationships/audio" Target="../media/zipby102.wav"/><Relationship Id="rId4" Type="http://schemas.openxmlformats.org/officeDocument/2006/relationships/audio" Target="../media/zipby102.wav"/><Relationship Id="rId5" Type="http://schemas.openxmlformats.org/officeDocument/2006/relationships/audio" Target="../media/zipby102.wav"/><Relationship Id="rId6" Type="http://schemas.openxmlformats.org/officeDocument/2006/relationships/audio" Target="../media/zapbig0g.wav"/><Relationship Id="rId7" Type="http://schemas.openxmlformats.org/officeDocument/2006/relationships/audio" Target="../media/zapvib04.wav"/><Relationship Id="rId8" Type="http://schemas.openxmlformats.org/officeDocument/2006/relationships/audio" Target="../media/driveby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lzipup01.wav"/><Relationship Id="rId12" Type="http://schemas.openxmlformats.org/officeDocument/2006/relationships/audio" Target="../media/lzipup01.wav"/><Relationship Id="rId13" Type="http://schemas.openxmlformats.org/officeDocument/2006/relationships/audio" Target="../media/frwrks0g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zipup202.wav"/><Relationship Id="rId3" Type="http://schemas.openxmlformats.org/officeDocument/2006/relationships/audio" Target="../media/zipby102.wav"/><Relationship Id="rId4" Type="http://schemas.openxmlformats.org/officeDocument/2006/relationships/audio" Target="../media/zipby102.wav"/><Relationship Id="rId5" Type="http://schemas.openxmlformats.org/officeDocument/2006/relationships/audio" Target="../media/zipby102.wav"/><Relationship Id="rId6" Type="http://schemas.openxmlformats.org/officeDocument/2006/relationships/audio" Target="../media/zapbig0g.wav"/><Relationship Id="rId7" Type="http://schemas.openxmlformats.org/officeDocument/2006/relationships/audio" Target="../media/zapvib04.wav"/><Relationship Id="rId8" Type="http://schemas.openxmlformats.org/officeDocument/2006/relationships/audio" Target="../media/driveby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lzipup01.wav"/><Relationship Id="rId12" Type="http://schemas.openxmlformats.org/officeDocument/2006/relationships/audio" Target="../media/lzipup01.wav"/><Relationship Id="rId13" Type="http://schemas.openxmlformats.org/officeDocument/2006/relationships/audio" Target="../media/frwrks0g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zipup202.wav"/><Relationship Id="rId2" Type="http://schemas.openxmlformats.org/officeDocument/2006/relationships/audio" Target="../media/highchime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zapbig0g.wav"/><Relationship Id="rId10" Type="http://schemas.openxmlformats.org/officeDocument/2006/relationships/audio" Target="../media/carbrake.wav"/><Relationship Id="rId11" Type="http://schemas.openxmlformats.org/officeDocument/2006/relationships/audio" Target="../media/zapvib04.wav"/><Relationship Id="rId12" Type="http://schemas.openxmlformats.org/officeDocument/2006/relationships/audio" Target="../media/zapvib04.wav"/><Relationship Id="rId13" Type="http://schemas.openxmlformats.org/officeDocument/2006/relationships/audio" Target="../media/zapvib04.wav"/><Relationship Id="rId14" Type="http://schemas.openxmlformats.org/officeDocument/2006/relationships/audio" Target="../media/driveby.wav"/><Relationship Id="rId15" Type="http://schemas.openxmlformats.org/officeDocument/2006/relationships/audio" Target="../media/jetflyby2.wav"/><Relationship Id="rId16" Type="http://schemas.openxmlformats.org/officeDocument/2006/relationships/audio" Target="../media/lzipup01.wav"/><Relationship Id="rId17" Type="http://schemas.openxmlformats.org/officeDocument/2006/relationships/audio" Target="../media/lzipup01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audio" Target="../media/zipdn102.wav"/><Relationship Id="rId22" Type="http://schemas.openxmlformats.org/officeDocument/2006/relationships/audio" Target="../media/zipdn102.wav"/><Relationship Id="rId23" Type="http://schemas.openxmlformats.org/officeDocument/2006/relationships/audio" Target="../media/driveby.wav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zipup202.wav"/><Relationship Id="rId2" Type="http://schemas.openxmlformats.org/officeDocument/2006/relationships/audio" Target="../media/highchime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zapbig0g.wav"/><Relationship Id="rId10" Type="http://schemas.openxmlformats.org/officeDocument/2006/relationships/audio" Target="../media/carbrake.wav"/><Relationship Id="rId11" Type="http://schemas.openxmlformats.org/officeDocument/2006/relationships/audio" Target="../media/zapvib04.wav"/><Relationship Id="rId12" Type="http://schemas.openxmlformats.org/officeDocument/2006/relationships/audio" Target="../media/zapvib04.wav"/><Relationship Id="rId13" Type="http://schemas.openxmlformats.org/officeDocument/2006/relationships/audio" Target="../media/zapvib04.wav"/><Relationship Id="rId14" Type="http://schemas.openxmlformats.org/officeDocument/2006/relationships/audio" Target="../media/driveby.wav"/><Relationship Id="rId15" Type="http://schemas.openxmlformats.org/officeDocument/2006/relationships/audio" Target="../media/jetflyby2.wav"/><Relationship Id="rId16" Type="http://schemas.openxmlformats.org/officeDocument/2006/relationships/audio" Target="../media/lzipup01.wav"/><Relationship Id="rId17" Type="http://schemas.openxmlformats.org/officeDocument/2006/relationships/audio" Target="../media/lzipup01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audio" Target="../media/zipdn102.wav"/><Relationship Id="rId22" Type="http://schemas.openxmlformats.org/officeDocument/2006/relationships/audio" Target="../media/zipdn102.wav"/><Relationship Id="rId23" Type="http://schemas.openxmlformats.org/officeDocument/2006/relationships/audio" Target="../media/driveby.wav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inear System with No or Many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graph of system of equations show 3 different si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505320"/>
            <a:ext cx="2971800" cy="2438280"/>
            <a:chOff x="0" y="3505320"/>
            <a:chExt cx="2971800" cy="2438280"/>
          </a:xfrm>
        </p:grpSpPr>
        <p:grpSp>
          <p:nvGrpSpPr>
            <p:cNvPr id="45" name=""/>
            <p:cNvGrpSpPr/>
            <p:nvPr/>
          </p:nvGrpSpPr>
          <p:grpSpPr>
            <a:xfrm>
              <a:off x="533520" y="3505320"/>
              <a:ext cx="2438280" cy="2438280"/>
              <a:chOff x="533520" y="3505320"/>
              <a:chExt cx="2438280" cy="2438280"/>
            </a:xfrm>
          </p:grpSpPr>
          <p:sp>
            <p:nvSpPr>
              <p:cNvPr id="46" name=""/>
              <p:cNvSpPr/>
              <p:nvPr/>
            </p:nvSpPr>
            <p:spPr>
              <a:xfrm>
                <a:off x="533520" y="35053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33520" y="380988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520" y="4114800"/>
                <a:ext cx="2438280" cy="304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33520" y="441936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33520" y="472428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33520" y="5029200"/>
                <a:ext cx="2438280" cy="304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33520" y="533376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33520" y="563868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335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380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4300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479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524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05740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3623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6668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533520" y="4724280"/>
              <a:ext cx="2438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2480" y="3505320"/>
              <a:ext cx="0" cy="24382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3505320"/>
              <a:ext cx="685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971800" y="3505320"/>
            <a:ext cx="2971800" cy="2438280"/>
            <a:chOff x="2971800" y="3505320"/>
            <a:chExt cx="2971800" cy="2438280"/>
          </a:xfrm>
        </p:grpSpPr>
        <p:grpSp>
          <p:nvGrpSpPr>
            <p:cNvPr id="66" name=""/>
            <p:cNvGrpSpPr/>
            <p:nvPr/>
          </p:nvGrpSpPr>
          <p:grpSpPr>
            <a:xfrm>
              <a:off x="3505320" y="3505320"/>
              <a:ext cx="2438280" cy="2438280"/>
              <a:chOff x="3505320" y="3505320"/>
              <a:chExt cx="2438280" cy="2438280"/>
            </a:xfrm>
          </p:grpSpPr>
          <p:sp>
            <p:nvSpPr>
              <p:cNvPr id="67" name=""/>
              <p:cNvSpPr/>
              <p:nvPr/>
            </p:nvSpPr>
            <p:spPr>
              <a:xfrm>
                <a:off x="3505320" y="35053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505320" y="380988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505320" y="4114800"/>
                <a:ext cx="2438280" cy="304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05320" y="441936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505320" y="472428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05320" y="5029200"/>
                <a:ext cx="2438280" cy="304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505320" y="533376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505320" y="563868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5053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098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1480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4197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7242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2920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3341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6386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505320" y="4724280"/>
              <a:ext cx="2438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24280" y="3505320"/>
              <a:ext cx="0" cy="24382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71800" y="3505320"/>
              <a:ext cx="685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943600" y="3505320"/>
            <a:ext cx="2971800" cy="2438280"/>
            <a:chOff x="5943600" y="3505320"/>
            <a:chExt cx="2971800" cy="2438280"/>
          </a:xfrm>
        </p:grpSpPr>
        <p:grpSp>
          <p:nvGrpSpPr>
            <p:cNvPr id="87" name=""/>
            <p:cNvGrpSpPr/>
            <p:nvPr/>
          </p:nvGrpSpPr>
          <p:grpSpPr>
            <a:xfrm>
              <a:off x="6477120" y="3505320"/>
              <a:ext cx="2438280" cy="2438280"/>
              <a:chOff x="6477120" y="3505320"/>
              <a:chExt cx="2438280" cy="2438280"/>
            </a:xfrm>
          </p:grpSpPr>
          <p:sp>
            <p:nvSpPr>
              <p:cNvPr id="88" name=""/>
              <p:cNvSpPr/>
              <p:nvPr/>
            </p:nvSpPr>
            <p:spPr>
              <a:xfrm>
                <a:off x="6477120" y="350532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477120" y="380988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77120" y="4114800"/>
                <a:ext cx="2438280" cy="304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77120" y="441936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477120" y="472428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477120" y="5029200"/>
                <a:ext cx="2438280" cy="304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77120" y="533376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477120" y="5638680"/>
                <a:ext cx="2438280" cy="30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771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7816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08660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915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960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00100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305920" y="3505320"/>
                <a:ext cx="30456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610480" y="3505320"/>
                <a:ext cx="30492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6477120" y="4724280"/>
              <a:ext cx="2438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96080" y="3505320"/>
              <a:ext cx="0" cy="24382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3600" y="3505320"/>
              <a:ext cx="685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533520" y="3504960"/>
            <a:ext cx="2438280" cy="2438280"/>
          </a:xfrm>
          <a:prstGeom prst="line">
            <a:avLst/>
          </a:prstGeom>
          <a:ln w="57240">
            <a:solidFill>
              <a:srgbClr val="0808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1219320" cy="243828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505320" y="3505320"/>
            <a:ext cx="2133360" cy="2133360"/>
          </a:xfrm>
          <a:prstGeom prst="line">
            <a:avLst/>
          </a:prstGeom>
          <a:ln w="572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809880" y="3809520"/>
            <a:ext cx="2133720" cy="21337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5029200"/>
            <a:ext cx="2438280" cy="60948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5029200"/>
            <a:ext cx="2438280" cy="609480"/>
          </a:xfrm>
          <a:prstGeom prst="line">
            <a:avLst/>
          </a:prstGeom>
          <a:ln w="572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1600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1.  Two lines inters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20574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 Two lines being 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31680" y="2514600"/>
            <a:ext cx="49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3. Two lines being the same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by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vib0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frwrks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04920" y="2057400"/>
                <a:ext cx="319392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inear System with No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ose a method to solve the linear system and tell how many solutions the system h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83200" y="34513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477120" y="3429000"/>
                <a:ext cx="455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2" name=""/>
          <p:cNvGrpSpPr/>
          <p:nvPr/>
        </p:nvGrpSpPr>
        <p:grpSpPr>
          <a:xfrm>
            <a:off x="3809880" y="1979280"/>
            <a:ext cx="1066680" cy="581400"/>
            <a:chOff x="3809880" y="1979280"/>
            <a:chExt cx="1066680" cy="581400"/>
          </a:xfrm>
        </p:grpSpPr>
        <p:sp>
          <p:nvSpPr>
            <p:cNvPr id="123" name=""/>
            <p:cNvSpPr/>
            <p:nvPr/>
          </p:nvSpPr>
          <p:spPr>
            <a:xfrm flipV="1">
              <a:off x="3809880" y="2463840"/>
              <a:ext cx="1066680" cy="2016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047120" y="1978920"/>
              <a:ext cx="81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858000" y="3429000"/>
                <a:ext cx="8668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 flipH="1">
            <a:off x="53337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876920" y="1981080"/>
                <a:ext cx="1144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889600" y="1981080"/>
                <a:ext cx="1143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05520" y="2003400"/>
                <a:ext cx="1141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0" name=""/>
          <p:cNvGrpSpPr/>
          <p:nvPr/>
        </p:nvGrpSpPr>
        <p:grpSpPr>
          <a:xfrm>
            <a:off x="3809880" y="2612880"/>
            <a:ext cx="990360" cy="579600"/>
            <a:chOff x="3809880" y="2612880"/>
            <a:chExt cx="990360" cy="579600"/>
          </a:xfrm>
        </p:grpSpPr>
        <p:sp>
          <p:nvSpPr>
            <p:cNvPr id="131" name=""/>
            <p:cNvSpPr/>
            <p:nvPr/>
          </p:nvSpPr>
          <p:spPr>
            <a:xfrm>
              <a:off x="3809880" y="3146400"/>
              <a:ext cx="99036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038480" y="2612880"/>
              <a:ext cx="304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181480" y="2743200"/>
                <a:ext cx="27846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 flipH="1">
            <a:off x="62481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743200" y="4343400"/>
            <a:ext cx="355284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o Solution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by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vib0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frwrks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80880" y="2057400"/>
                <a:ext cx="296712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inear System with No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ose a method to solve the linear system and tell how many solutions the system h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83200" y="34513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400800" y="3429000"/>
                <a:ext cx="455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2" name=""/>
          <p:cNvGrpSpPr/>
          <p:nvPr/>
        </p:nvGrpSpPr>
        <p:grpSpPr>
          <a:xfrm>
            <a:off x="3809880" y="1979280"/>
            <a:ext cx="1066680" cy="581400"/>
            <a:chOff x="3809880" y="1979280"/>
            <a:chExt cx="1066680" cy="581400"/>
          </a:xfrm>
        </p:grpSpPr>
        <p:sp>
          <p:nvSpPr>
            <p:cNvPr id="143" name=""/>
            <p:cNvSpPr/>
            <p:nvPr/>
          </p:nvSpPr>
          <p:spPr>
            <a:xfrm flipV="1">
              <a:off x="3809880" y="2463840"/>
              <a:ext cx="1066680" cy="2016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047120" y="1978920"/>
              <a:ext cx="81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858000" y="3429000"/>
                <a:ext cx="11415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 flipH="1">
            <a:off x="53337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898880" y="1981080"/>
                <a:ext cx="1098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889600" y="1981080"/>
                <a:ext cx="1143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010280" y="1981080"/>
                <a:ext cx="1416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3809880" y="2612880"/>
            <a:ext cx="990360" cy="579600"/>
            <a:chOff x="3809880" y="2612880"/>
            <a:chExt cx="990360" cy="579600"/>
          </a:xfrm>
        </p:grpSpPr>
        <p:sp>
          <p:nvSpPr>
            <p:cNvPr id="151" name=""/>
            <p:cNvSpPr/>
            <p:nvPr/>
          </p:nvSpPr>
          <p:spPr>
            <a:xfrm>
              <a:off x="3809880" y="3146400"/>
              <a:ext cx="99036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038480" y="2612880"/>
              <a:ext cx="304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294160" y="2743200"/>
                <a:ext cx="25574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 flipH="1">
            <a:off x="62481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743200" y="4343400"/>
            <a:ext cx="355284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o Solution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frwrks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28600" y="2057400"/>
                <a:ext cx="342252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inear System with No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ose a method to solve the linear system and tell how many solutions the system h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83200" y="34513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477120" y="3429000"/>
                <a:ext cx="455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2" name=""/>
          <p:cNvGrpSpPr/>
          <p:nvPr/>
        </p:nvGrpSpPr>
        <p:grpSpPr>
          <a:xfrm>
            <a:off x="3809880" y="1981080"/>
            <a:ext cx="1066680" cy="579600"/>
            <a:chOff x="3809880" y="1981080"/>
            <a:chExt cx="1066680" cy="579600"/>
          </a:xfrm>
        </p:grpSpPr>
        <p:sp>
          <p:nvSpPr>
            <p:cNvPr id="163" name=""/>
            <p:cNvSpPr/>
            <p:nvPr/>
          </p:nvSpPr>
          <p:spPr>
            <a:xfrm flipV="1">
              <a:off x="3809880" y="2463840"/>
              <a:ext cx="1066680" cy="2016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047120" y="1981080"/>
              <a:ext cx="816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7010280" y="3429000"/>
                <a:ext cx="10954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 flipH="1">
            <a:off x="53337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181480" y="2057400"/>
                <a:ext cx="26575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8" name=""/>
          <p:cNvGrpSpPr/>
          <p:nvPr/>
        </p:nvGrpSpPr>
        <p:grpSpPr>
          <a:xfrm>
            <a:off x="3809880" y="2741400"/>
            <a:ext cx="1077840" cy="581400"/>
            <a:chOff x="3809880" y="2741400"/>
            <a:chExt cx="1077840" cy="581400"/>
          </a:xfrm>
        </p:grpSpPr>
        <p:sp>
          <p:nvSpPr>
            <p:cNvPr id="169" name=""/>
            <p:cNvSpPr/>
            <p:nvPr/>
          </p:nvSpPr>
          <p:spPr>
            <a:xfrm flipV="1">
              <a:off x="3809880" y="3251160"/>
              <a:ext cx="1077840" cy="2376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014720" y="2741040"/>
              <a:ext cx="55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62481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43200" y="4343400"/>
            <a:ext cx="355284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o Solution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800600" y="2743200"/>
                <a:ext cx="1141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867280" y="2743200"/>
                <a:ext cx="1141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010280" y="2743200"/>
                <a:ext cx="866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by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by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frwrks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040" y="2057400"/>
                <a:ext cx="337680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inear System with Many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ose a method to solve the linear system and tell how many solutions the system h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83200" y="34513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477120" y="3429000"/>
                <a:ext cx="455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3809880" y="1979280"/>
            <a:ext cx="1066680" cy="581400"/>
            <a:chOff x="3809880" y="1979280"/>
            <a:chExt cx="1066680" cy="581400"/>
          </a:xfrm>
        </p:grpSpPr>
        <p:sp>
          <p:nvSpPr>
            <p:cNvPr id="183" name=""/>
            <p:cNvSpPr/>
            <p:nvPr/>
          </p:nvSpPr>
          <p:spPr>
            <a:xfrm flipV="1">
              <a:off x="3809880" y="2463840"/>
              <a:ext cx="1066680" cy="2016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047120" y="1978920"/>
              <a:ext cx="81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858000" y="3429000"/>
                <a:ext cx="8668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 flipH="1">
            <a:off x="53337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876920" y="1981080"/>
                <a:ext cx="1144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867280" y="1981080"/>
                <a:ext cx="1143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934320" y="1981080"/>
                <a:ext cx="1415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"/>
          <p:cNvGrpSpPr/>
          <p:nvPr/>
        </p:nvGrpSpPr>
        <p:grpSpPr>
          <a:xfrm>
            <a:off x="3809880" y="2612880"/>
            <a:ext cx="1142640" cy="579600"/>
            <a:chOff x="3809880" y="2612880"/>
            <a:chExt cx="1142640" cy="579600"/>
          </a:xfrm>
        </p:grpSpPr>
        <p:sp>
          <p:nvSpPr>
            <p:cNvPr id="191" name=""/>
            <p:cNvSpPr/>
            <p:nvPr/>
          </p:nvSpPr>
          <p:spPr>
            <a:xfrm>
              <a:off x="3809880" y="3146400"/>
              <a:ext cx="114264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073400" y="2612880"/>
              <a:ext cx="35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257800" y="2743200"/>
                <a:ext cx="28288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 flipH="1">
            <a:off x="62481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666880" y="4343400"/>
            <a:ext cx="462924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Infinitely Many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olution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754344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rwrks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31760" y="2057400"/>
                <a:ext cx="34671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inear System with Many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ose a method to solve the linear system and tell how many solutions the system h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83200" y="34513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477120" y="3429000"/>
                <a:ext cx="455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3" name=""/>
          <p:cNvGrpSpPr/>
          <p:nvPr/>
        </p:nvGrpSpPr>
        <p:grpSpPr>
          <a:xfrm>
            <a:off x="3809880" y="1979280"/>
            <a:ext cx="1066680" cy="581400"/>
            <a:chOff x="3809880" y="1979280"/>
            <a:chExt cx="1066680" cy="581400"/>
          </a:xfrm>
        </p:grpSpPr>
        <p:sp>
          <p:nvSpPr>
            <p:cNvPr id="204" name=""/>
            <p:cNvSpPr/>
            <p:nvPr/>
          </p:nvSpPr>
          <p:spPr>
            <a:xfrm flipV="1">
              <a:off x="3809880" y="2463840"/>
              <a:ext cx="1066680" cy="2016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4047120" y="1978920"/>
              <a:ext cx="81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/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858000" y="3429000"/>
                <a:ext cx="8668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 flipH="1">
            <a:off x="53337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876920" y="1981080"/>
                <a:ext cx="11444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889600" y="1981080"/>
                <a:ext cx="1141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883560" y="2003400"/>
                <a:ext cx="11872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3809880" y="2612160"/>
            <a:ext cx="990720" cy="581400"/>
            <a:chOff x="3809880" y="2612160"/>
            <a:chExt cx="990720" cy="581400"/>
          </a:xfrm>
        </p:grpSpPr>
        <p:sp>
          <p:nvSpPr>
            <p:cNvPr id="212" name=""/>
            <p:cNvSpPr/>
            <p:nvPr/>
          </p:nvSpPr>
          <p:spPr>
            <a:xfrm>
              <a:off x="3809880" y="3146400"/>
              <a:ext cx="99072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038480" y="2611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/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 txBox="1"/>
          <p:nvPr/>
        </p:nvSpPr>
        <p:spPr>
          <a:xfrm>
            <a:off x="2666880" y="4343400"/>
            <a:ext cx="462924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Infinitely Many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olution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181480" y="2743200"/>
                <a:ext cx="7318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791320" y="2743200"/>
                <a:ext cx="1143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934320" y="2743200"/>
                <a:ext cx="8683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 flipH="1">
            <a:off x="62481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3911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frwrks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46240" y="2057400"/>
                <a:ext cx="323820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inear System with Many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ose a method to solve the linear system and tell how many solutions the system h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83200" y="345132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477120" y="3429000"/>
                <a:ext cx="455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6" name=""/>
          <p:cNvGrpSpPr/>
          <p:nvPr/>
        </p:nvGrpSpPr>
        <p:grpSpPr>
          <a:xfrm>
            <a:off x="3809880" y="1979280"/>
            <a:ext cx="1066680" cy="581400"/>
            <a:chOff x="3809880" y="1979280"/>
            <a:chExt cx="1066680" cy="581400"/>
          </a:xfrm>
        </p:grpSpPr>
        <p:sp>
          <p:nvSpPr>
            <p:cNvPr id="227" name=""/>
            <p:cNvSpPr/>
            <p:nvPr/>
          </p:nvSpPr>
          <p:spPr>
            <a:xfrm flipV="1">
              <a:off x="3809880" y="2463840"/>
              <a:ext cx="1066680" cy="2016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047120" y="1978920"/>
              <a:ext cx="81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/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858000" y="3429000"/>
                <a:ext cx="8668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 flipH="1">
            <a:off x="53337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105520" y="1981080"/>
                <a:ext cx="11444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095880" y="2057400"/>
                <a:ext cx="8683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934320" y="1981080"/>
                <a:ext cx="1141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4" name=""/>
          <p:cNvGrpSpPr/>
          <p:nvPr/>
        </p:nvGrpSpPr>
        <p:grpSpPr>
          <a:xfrm>
            <a:off x="3809880" y="2612880"/>
            <a:ext cx="990360" cy="579600"/>
            <a:chOff x="3809880" y="2612880"/>
            <a:chExt cx="990360" cy="579600"/>
          </a:xfrm>
        </p:grpSpPr>
        <p:sp>
          <p:nvSpPr>
            <p:cNvPr id="235" name=""/>
            <p:cNvSpPr/>
            <p:nvPr/>
          </p:nvSpPr>
          <p:spPr>
            <a:xfrm>
              <a:off x="3809880" y="3146400"/>
              <a:ext cx="99036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038480" y="2612880"/>
              <a:ext cx="304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410080" y="2743200"/>
                <a:ext cx="2327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 flipH="1">
            <a:off x="62481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666880" y="4343400"/>
            <a:ext cx="462924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Infinitely Many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olution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391160" y="190512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frwrks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a Cost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1143000"/>
            <a:ext cx="8915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7.  An artist is buying art supplies. She buys 4 sketchpads and 2 palettes. She pays $16 for the supplies. The following week, at the same prices, she buys 1 sketchpad and 1 palette and pays $5. Can you find the price of one sketchpad? Explai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80960" y="3070080"/>
                <a:ext cx="608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85800" y="3733920"/>
                <a:ext cx="3650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335240" y="3673440"/>
                <a:ext cx="7887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670120" y="3618000"/>
                <a:ext cx="8175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614920" y="2895480"/>
                <a:ext cx="28749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4952880" y="4267080"/>
            <a:ext cx="3886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391520" y="4267080"/>
                <a:ext cx="8665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1" name=""/>
          <p:cNvGrpSpPr/>
          <p:nvPr/>
        </p:nvGrpSpPr>
        <p:grpSpPr>
          <a:xfrm>
            <a:off x="4038480" y="2819160"/>
            <a:ext cx="990360" cy="579240"/>
            <a:chOff x="4038480" y="2819160"/>
            <a:chExt cx="990360" cy="579240"/>
          </a:xfrm>
        </p:grpSpPr>
        <p:sp>
          <p:nvSpPr>
            <p:cNvPr id="252" name=""/>
            <p:cNvSpPr/>
            <p:nvPr/>
          </p:nvSpPr>
          <p:spPr>
            <a:xfrm>
              <a:off x="4038480" y="3352680"/>
              <a:ext cx="99036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267080" y="2818800"/>
              <a:ext cx="3045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181480" y="3581280"/>
                <a:ext cx="1095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219320" y="3048120"/>
                <a:ext cx="109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575080" y="3048120"/>
                <a:ext cx="1022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4038480" y="3506400"/>
            <a:ext cx="990720" cy="581400"/>
            <a:chOff x="4038480" y="3506400"/>
            <a:chExt cx="990720" cy="581400"/>
          </a:xfrm>
        </p:grpSpPr>
        <p:sp>
          <p:nvSpPr>
            <p:cNvPr id="258" name=""/>
            <p:cNvSpPr/>
            <p:nvPr/>
          </p:nvSpPr>
          <p:spPr>
            <a:xfrm>
              <a:off x="4038480" y="4038480"/>
              <a:ext cx="99072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267080" y="35060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248520" y="3581280"/>
                <a:ext cx="11858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391520" y="3581280"/>
                <a:ext cx="12286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 flipH="1">
            <a:off x="6552720" y="2743200"/>
            <a:ext cx="685800" cy="152388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743880" y="4267080"/>
                <a:ext cx="6840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7010280" y="5486400"/>
                <a:ext cx="4096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7467480" y="5410080"/>
                <a:ext cx="8226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63400" y="4495680"/>
                <a:ext cx="31514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484360" y="5889600"/>
                <a:ext cx="870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990720" y="5181480"/>
                <a:ext cx="8222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895480" y="5181480"/>
                <a:ext cx="822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227160" y="5807160"/>
            <a:ext cx="3200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806480" y="5945040"/>
                <a:ext cx="546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72" name=""/>
          <p:cNvCxnSpPr/>
          <p:nvPr/>
        </p:nvCxnSpPr>
        <p:spPr>
          <a:xfrm flipH="1" flipV="1" rot="10800000">
            <a:off x="479880" y="3353400"/>
            <a:ext cx="83160" cy="1531080"/>
          </a:xfrm>
          <a:prstGeom prst="curvedConnector5">
            <a:avLst>
              <a:gd name="adj1" fmla="val -276521"/>
              <a:gd name="adj2" fmla="val 50000"/>
              <a:gd name="adj3" fmla="val -2765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066680" y="4572000"/>
                <a:ext cx="405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4038480" y="5486400"/>
            <a:ext cx="281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$3 Sketch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$2 Pal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876920"/>
            <a:ext cx="7477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858000" y="4876920"/>
                <a:ext cx="4572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7772400" y="4876920"/>
            <a:ext cx="54756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7802640" y="4898880"/>
                <a:ext cx="4554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7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vi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dn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veby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CCSS</cp:lastModifiedBy>
  <dcterms:modified xsi:type="dcterms:W3CDTF">2002-11-22T12:30:18Z</dcterms:modified>
  <cp:revision>138</cp:revision>
  <dc:subject/>
  <dc:title>PowerPoint Presentation</dc:title>
</cp:coreProperties>
</file>